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B0A-51DA-48AD-9B89-01303414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A79E-3C92-4C53-B250-FA78676A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6749-1436-4A6F-9291-94D1A6C7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E016-54F5-4A20-A2A6-A2ADC2A9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8DA9-61EF-4FCB-9137-0DDAA864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98E8-25FD-476B-BC96-CB650391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D20F-EC84-45D6-B367-67A562FA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F818-507F-4DBA-AEE6-5BF57E67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CB80-7D9F-4D4F-9629-7F3797DB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7AC3-D16B-4BDE-9A31-6E16FD74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6726-3179-492B-ADD7-AEC1208A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E75-0BBA-4227-BF49-8AA8ACD5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4963-106E-4C67-8ADE-2FC6417A8571}" type="datetime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2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452760" y="6359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09B9-5F09-4D46-8E68-339F07A802C5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JERRY Project Planning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&gt; Software &lt;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960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Yang Yong Qi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 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, 28.02.200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AF6F-9FF2-4097-B120-3797D7B3F7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HW: 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oul Erik Rask</a:t>
            </a:r>
            <a:r>
              <a:rPr b="0" lang="en-US" sz="36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(Aalborg / D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Experienced technical project leader of ODM projects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50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T55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T60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FX65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75 (Taiwan)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Hardware project leader of JERRY (in Aalbor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9A68-4A9E-40C6-ABD4-B81230A4F8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IM/DL: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Allan Hansen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(Aalborg / D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a0e66"/>
                </a:solidFill>
                <a:latin typeface="Minion"/>
              </a:rPr>
              <a:t>Software and Integration Manager of Projects lik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oC for Ulysses Refresh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Next generation software platform”</a:t>
            </a:r>
            <a:br>
              <a:rPr sz="2400"/>
            </a:b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roject leader Integration Management and Device Layer for JERRY (working in Beij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2713-73B7-45D3-92F8-153C3E3B7A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art Project Leaders (PPL) working in Aal / DK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lemming Kokholm (JERRY: System Test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Venus (ODM), S56 Marlin, Aries, Cormorant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Randi Bak (JERRY: Layout / Production Data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ibri X3, Hera, Cormora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lemming Bach Kristensen (JERRY: Digital HW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56, C56, Janus, Venus, Robin, Wolf 4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Arne Bisgaard Kristensen (JERRY: EMC/Ant): Hera C65, C66, C70, C71, Pegasus AX75, AX76, AX72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Michael Brammer (JERRY: RF):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HP4000, Dual com 738, World 718, Dual com 439/939, Dual GSM 300, SP55, SX1, Hydra.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5B7A-0A1D-4780-93E5-9D175655B3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 SW:    Yang Yong Qiang (Beijing, PRC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9 years in software development Mobile phones and IS-95 CDMA Basesta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Java topics in Beijing R&amp;D Center, BenQ/Siemens Mobile, incl. CLDC HI, DoJa, JSR177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PL SW Dorado and Libra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宋体"/>
              </a:rPr>
              <a:t>Software Project Leader of JERRY (in Beij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CA9-D9FA-4AD8-9F4C-68991D4155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 Feature: Hu Chun Yan (Beijing, PRC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8 years in software development Mobile phon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Leading DoJa Development in Beijing R&amp;D Center, BenQ/Siemens Mobil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a0e66"/>
                </a:solidFill>
                <a:latin typeface="Minion"/>
                <a:ea typeface="宋体"/>
              </a:rPr>
              <a:t>Features Project Leader of JERRY (in Beij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61C-0C84-4CA1-A8D5-25A0BDF1A7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6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BenQ Beijing Development Team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5 years SW development experience on average, with 2 years in BenQ/Siemens Mobil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System Architect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tefan Burkert (coach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Chen Mia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Development Team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Cui Yi (Lead)                             Lu Qi Wen (SW Arch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Song Wen Juan (SW Arch)       Yi Xiao Qiang (SE*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Zhou Tong (SE*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2 local consultant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宋体"/>
              </a:rPr>
              <a:t>-- SE* = Senior Engineer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5528-F3E2-453E-9F6D-AB1644DA92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SISL PL off-shore: Rajeev Chauhan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ore than 11 years in software development and system testing for Mobile phone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UMTS NodeB OAM, transportation systems and protocol developmen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a0e66"/>
                </a:solidFill>
                <a:latin typeface="Minion"/>
                <a:ea typeface="宋体"/>
              </a:rPr>
              <a:t>Leader of the UI development team in India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349D-63BE-457F-B823-28E2B01F16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SL Development Team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More than 5 years SW development experience on average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Rajeev Bhatia: Architect AppMsg (messagin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Sunisha Aggarwal: Architect AppBase/Avatar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Gagan Kashyap: Architect AppBase/AppIDC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25 SW Engineers (with 2 - 11 years experience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FAE5-3ABE-41ED-BB9F-0B0981CF17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Software Project going AG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825480"/>
            <a:ext cx="837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ACKLOG = list of all tasks to be performed        [Ref.:    C75-Aries / SGlite S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53880" y="1239840"/>
            <a:ext cx="8394840" cy="50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F0AF-EFE4-4A9F-8F1E-5798E265B1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Software Project going AG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825480"/>
            <a:ext cx="83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ACKLOG (continued)        [Ref.:    C75-Aries / SGlite S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01760" y="1252440"/>
            <a:ext cx="8332560" cy="440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29A6-01BF-440D-B063-9461136D31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CONTEN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Resource Profile  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5C10-2A13-4CE7-A7F5-28F8F4EC00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Software Project going AG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825480"/>
            <a:ext cx="83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ACKLOG (continued)        [Ref.:    C75-Aries / SGlite S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19040" y="1263600"/>
            <a:ext cx="830592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0F7-BE6A-4867-9A97-AD47350D28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5920" y="992160"/>
            <a:ext cx="8346960" cy="484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1754-BEA6-4F20-BEE4-A6E344ADA5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07880" y="976320"/>
            <a:ext cx="8339400" cy="471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3CC2-B7A0-4D9E-BE2B-961FDE1B4A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3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07880" y="958680"/>
            <a:ext cx="8348760" cy="324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0A7-F312-4810-8504-6072D8988C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.4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09680" y="950760"/>
            <a:ext cx="8324640" cy="369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F9B2-F209-4D66-8048-180B0F84D3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53880" y="988920"/>
            <a:ext cx="8394840" cy="520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E16-5D0D-4A72-A8BF-D6ABF1A118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57120" y="984240"/>
            <a:ext cx="8393040" cy="371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7334-24B0-4B67-9977-62D5CA9D69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I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53880" y="985680"/>
            <a:ext cx="8385480" cy="438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D998-CFAD-475C-A1DC-D8AE00A3838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I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57120" y="988920"/>
            <a:ext cx="8391600" cy="408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815-4075-4E6D-A2A7-A3C5328784F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II.3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53880" y="982800"/>
            <a:ext cx="8390160" cy="383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A955-4BFA-49C4-A24F-606A73A7959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3480" y="816120"/>
            <a:ext cx="1874880" cy="438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PM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Koh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Kheng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Sara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anning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 SW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Yang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Y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06560" y="5075280"/>
            <a:ext cx="2475000" cy="5540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M </a:t>
            </a:r>
            <a:r>
              <a:rPr b="1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Zhang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88600" y="148284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: 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0440" y="1463760"/>
            <a:ext cx="224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alborg:  HW 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520" y="1268280"/>
            <a:ext cx="1829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 / Shangha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FE69-9D5B-45D2-ADB0-EBD5F48CD2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V.1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57120" y="981000"/>
            <a:ext cx="8396280" cy="36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558B-F231-4DEF-B9F3-29C0264B37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JERRY – SW Implementation in Sprints (IV.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53880" y="976320"/>
            <a:ext cx="8404200" cy="3913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454040" y="5175360"/>
            <a:ext cx="6112080" cy="82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8B8C-A459-4445-BBD7-1BF038A3C79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2" name=""/>
          <p:cNvSpPr/>
          <p:nvPr/>
        </p:nvSpPr>
        <p:spPr>
          <a:xfrm>
            <a:off x="3875760" y="133344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Agreed Product Backlog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3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0440" y="404964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73240" y="512928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07760" y="579744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63400" y="77148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 Milestones (Ag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6840" y="1752480"/>
            <a:ext cx="56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1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3 A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1240" y="2068560"/>
            <a:ext cx="38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7 A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14240" y="2570040"/>
            <a:ext cx="57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2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4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28640" y="288612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1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6840" y="3351240"/>
            <a:ext cx="55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3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5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1240" y="366696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9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34760" y="446580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4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91960" y="4781520"/>
            <a:ext cx="45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25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34760" y="5467320"/>
            <a:ext cx="38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3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28 Ju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5AC3-1FAC-4333-9529-65F556EC731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10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16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10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7889-8F20-4679-98E4-3D8ED165572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5" name=""/>
          <p:cNvSpPr/>
          <p:nvPr/>
        </p:nvSpPr>
        <p:spPr>
          <a:xfrm>
            <a:off x="4205880" y="17463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=      Design Free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30440" y="295416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4400" y="325116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07760" y="460368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75760" y="557208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hipment to Opcos by: 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3 Oc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03000" y="77148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2E49-C13A-4813-8BCC-1492E7DC9CD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60640" y="5856120"/>
            <a:ext cx="647640" cy="455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Approv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045200" y="581652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02040" y="5848200"/>
            <a:ext cx="647640" cy="455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Approv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98800" y="5856120"/>
            <a:ext cx="647640" cy="455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Approv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64240" y="5324400"/>
            <a:ext cx="1658880" cy="260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Sprint 4</a:t>
            </a: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 Approval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42000" y="5324400"/>
            <a:ext cx="771480" cy="347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DF09-6AEA-471D-BE3C-B4B46AA613BE}" type="slidenum">
              <a:t>35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38040" y="603360"/>
            <a:ext cx="8229600" cy="60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E54A-B313-4E79-91F2-3AA78D091B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F918-3205-44C7-B333-3787FD279E4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B937-ACFB-48D1-92EE-6C256891C1C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Meaning of Acronym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3722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Organizational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QA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 = Quality Assuranc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HW   = Hardwar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MD    = Mechanical Desig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ST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  = System Tes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LCM  = Lifecycle Managemen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NPI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</a:rPr>
              <a:t>  = New Products Introduc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4" name=""/>
          <p:cNvSpPr/>
          <p:nvPr/>
        </p:nvSpPr>
        <p:spPr>
          <a:xfrm>
            <a:off x="4772160" y="990720"/>
            <a:ext cx="40100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Project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PM = Category Product Mana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L-T = Technical Project L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PM = Technical Product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A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Business Admin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3373560"/>
            <a:ext cx="4010040" cy="26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宋体"/>
              </a:rPr>
              <a:t>Technical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A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Core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IM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Integration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BM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Build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M  = Configuration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IT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Core Integration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DB = Component 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IDB 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= Integration 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C629-A5E4-460B-A202-022C3EE44F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T:          Lars Bonde (Aalborg / Denmar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Experienced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leader of ODM projects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ebri GPRS module (developed in France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ibri X8 (Developed in FIN / DK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Luna (Developed in Taiwan)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Mars CC75 (Developed in Finland)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Technical Project Leader of JERRY in Aalborg - responsible for all work-packages assigned to Aalborg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7AFA-CFFF-4B77-80D7-64B5CB6536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Resource Profil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PL-MD:     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hristian P. Nielsen (Aalborg / DK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Experienced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leader of mechanical projects: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Dual 909, Dual 909S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Xelibri X3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Hera Nop1, 2 and 3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ormorant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  <a:ea typeface="宋体"/>
              </a:rPr>
              <a:t>Mechanical project leader of JERRY (in Aalborg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E02F-5818-4156-9F1A-83241C6B0D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/>
  <dc:description/>
  <dc:language>en-US</dc:language>
  <cp:lastModifiedBy/>
  <dcterms:modified xsi:type="dcterms:W3CDTF">2006-02-28T12:12:17Z</dcterms:modified>
  <cp:revision>239</cp:revision>
  <dc:subject/>
  <dc:title>PowerPoint</dc:title>
</cp:coreProperties>
</file>